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3885-D131-4347-84E6-31A33920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338-8268-4395-BEA1-F693A5CE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26E-EFB1-4110-9FD4-8F4C3457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798-0E72-4F12-9B8B-A47163F1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000-83A0-4593-9A28-D725C20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3BB-D3D6-49C1-AB0D-53AEEFA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134-1A1E-418B-9AF0-D32ADAA8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54C-2E05-4659-8404-96A39A99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59A-77B9-4598-86BE-EF9A74C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260-6B7C-45D5-BF47-9EF5B534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D05-1193-4EDF-A872-F414DB8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DFC-7FBA-4279-88CE-7C1F3FE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76B-9AC7-41B9-B0DE-5F166DF93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04:02:28Z</dcterms:created>
  <dc:creator>user</dc:creator>
  <dc:description/>
  <dc:language>en-US</dc:language>
  <cp:lastModifiedBy>user</cp:lastModifiedBy>
  <dcterms:modified xsi:type="dcterms:W3CDTF">2009-02-16T04:04:04Z</dcterms:modified>
  <cp:revision>1</cp:revision>
  <dc:subject/>
  <dc:title>Test 1</dc:title>
</cp:coreProperties>
</file>